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455-5E95-4D07-A9E6-20779E92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0C5-8032-4E46-AC97-2C24E969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594-5F4C-4AC0-8A46-293E4FB3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FF3-C971-471E-8A97-1638502B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508-85B5-4C6A-9EE4-DAC37A7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97D-C323-4CD9-A9E8-3EE48B78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BB8-3D85-4009-9449-C24A173E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76E-1188-4A26-B436-E45DE8D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F46-2362-4860-83B7-6D208388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3F7-9E91-42A4-8376-096508B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524-A24D-4F78-B3E4-74917DC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9F4-CB5B-4954-94B0-24ED3E1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06C1-4B6D-4741-97BB-43BD5F9D5A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76720" y="380880"/>
            <a:ext cx="2590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76720" y="1981080"/>
            <a:ext cx="25905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76720" y="3429000"/>
            <a:ext cx="2590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219320" y="1981080"/>
            <a:ext cx="1828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705720" y="20574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572000" y="5524560"/>
            <a:ext cx="1905120" cy="1066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7010280" y="5562720"/>
            <a:ext cx="1828800" cy="99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2443320" y="5278320"/>
            <a:ext cx="1676160" cy="1219320"/>
          </a:xfrm>
          <a:custGeom>
            <a:avLst/>
            <a:gdLst>
              <a:gd name="textAreaLeft" fmla="*/ 390600 w 1676160"/>
              <a:gd name="textAreaRight" fmla="*/ 1284840 w 1676160"/>
              <a:gd name="textAreaTop" fmla="*/ 128520 h 1219320"/>
              <a:gd name="textAreaBottom" fmla="*/ 772200 h 12193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78487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836604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 rot="5365800">
            <a:off x="7887240" y="3674160"/>
            <a:ext cx="8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l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4"/>
          <p:cNvCxnSpPr>
            <a:stCxn id="44" idx="3"/>
            <a:endCxn id="42" idx="1"/>
          </p:cNvCxnSpPr>
          <p:nvPr/>
        </p:nvCxnSpPr>
        <p:spPr>
          <a:xfrm>
            <a:off x="3048120" y="24764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5"/>
          <p:cNvSpPr/>
          <p:nvPr/>
        </p:nvSpPr>
        <p:spPr>
          <a:xfrm>
            <a:off x="670320" y="102060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6"/>
          <p:cNvCxnSpPr>
            <a:stCxn id="45" idx="1"/>
          </p:cNvCxnSpPr>
          <p:nvPr/>
        </p:nvCxnSpPr>
        <p:spPr>
          <a:xfrm flipH="1">
            <a:off x="5866560" y="2514600"/>
            <a:ext cx="839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7"/>
          <p:cNvCxnSpPr>
            <a:stCxn id="41" idx="2"/>
            <a:endCxn id="42" idx="0"/>
          </p:cNvCxnSpPr>
          <p:nvPr/>
        </p:nvCxnSpPr>
        <p:spPr>
          <a:xfrm>
            <a:off x="4572000" y="129528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18"/>
          <p:cNvCxnSpPr>
            <a:stCxn id="43" idx="0"/>
            <a:endCxn id="42" idx="2"/>
          </p:cNvCxnSpPr>
          <p:nvPr/>
        </p:nvCxnSpPr>
        <p:spPr>
          <a:xfrm flipV="1">
            <a:off x="4572000" y="297180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AutoShape 21"/>
          <p:cNvCxnSpPr>
            <a:stCxn id="49" idx="0"/>
          </p:cNvCxnSpPr>
          <p:nvPr/>
        </p:nvCxnSpPr>
        <p:spPr>
          <a:xfrm flipH="1">
            <a:off x="4571640" y="480024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3"/>
          <p:cNvSpPr/>
          <p:nvPr/>
        </p:nvSpPr>
        <p:spPr>
          <a:xfrm>
            <a:off x="762120" y="487440"/>
            <a:ext cx="1218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746280" y="48744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1889280" y="437364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851440" y="4373640"/>
            <a:ext cx="16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095880" y="43736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8763120" y="1828800"/>
            <a:ext cx="228600" cy="304920"/>
          </a:xfrm>
          <a:custGeom>
            <a:avLst/>
            <a:gdLst>
              <a:gd name="textAreaLeft" fmla="*/ 0 w 228600"/>
              <a:gd name="textAreaRight" fmla="*/ 228960 w 228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44" h="192">
                <a:moveTo>
                  <a:pt x="0" y="192"/>
                </a:moveTo>
                <a:cubicBezTo>
                  <a:pt x="52" y="136"/>
                  <a:pt x="104" y="80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0" y="2895480"/>
            <a:ext cx="6705720" cy="177804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4224" h="1120">
                <a:moveTo>
                  <a:pt x="4224" y="48"/>
                </a:moveTo>
                <a:cubicBezTo>
                  <a:pt x="4224" y="428"/>
                  <a:pt x="4224" y="808"/>
                  <a:pt x="3840" y="960"/>
                </a:cubicBezTo>
                <a:cubicBezTo>
                  <a:pt x="3456" y="1112"/>
                  <a:pt x="2560" y="1120"/>
                  <a:pt x="1920" y="960"/>
                </a:cubicBezTo>
                <a:cubicBezTo>
                  <a:pt x="1280" y="800"/>
                  <a:pt x="320" y="16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1889280" y="338292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2346480" y="3687840"/>
            <a:ext cx="5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24382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3"/>
          <p:cNvSpPr/>
          <p:nvPr/>
        </p:nvSpPr>
        <p:spPr>
          <a:xfrm>
            <a:off x="27432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89080" y="20113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441360" y="262080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83808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7"/>
          <p:cNvSpPr/>
          <p:nvPr/>
        </p:nvSpPr>
        <p:spPr>
          <a:xfrm flipV="1">
            <a:off x="9907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8"/>
          <p:cNvSpPr/>
          <p:nvPr/>
        </p:nvSpPr>
        <p:spPr>
          <a:xfrm flipV="1">
            <a:off x="1143000" y="99036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1219320" y="685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hteck 1"/>
          <p:cNvSpPr/>
          <p:nvPr/>
        </p:nvSpPr>
        <p:spPr>
          <a:xfrm>
            <a:off x="6705720" y="380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Gerade Verbindung mit Pfeil 3"/>
          <p:cNvCxnSpPr>
            <a:stCxn id="75" idx="2"/>
            <a:endCxn id="45" idx="0"/>
          </p:cNvCxnSpPr>
          <p:nvPr/>
        </p:nvCxnSpPr>
        <p:spPr>
          <a:xfrm>
            <a:off x="7734240" y="1295280"/>
            <a:ext cx="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Gerade Verbindung mit Pfeil 5"/>
          <p:cNvCxnSpPr/>
          <p:nvPr/>
        </p:nvCxnSpPr>
        <p:spPr>
          <a:xfrm flipV="1">
            <a:off x="8027640" y="297108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Gewinkelte Verbindung 10"/>
          <p:cNvCxnSpPr>
            <a:stCxn id="44" idx="0"/>
          </p:cNvCxnSpPr>
          <p:nvPr/>
        </p:nvCxnSpPr>
        <p:spPr>
          <a:xfrm flipH="1" flipV="1" rot="5400000">
            <a:off x="4686120" y="-876600"/>
            <a:ext cx="305280" cy="5410800"/>
          </a:xfrm>
          <a:prstGeom prst="bentConnector3">
            <a:avLst>
              <a:gd name="adj1" fmla="val 8795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79" name="Gerade Verbindung mit Pfeil 12"/>
          <p:cNvCxnSpPr/>
          <p:nvPr/>
        </p:nvCxnSpPr>
        <p:spPr>
          <a:xfrm>
            <a:off x="7543440" y="163836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Oval 7"/>
          <p:cNvSpPr/>
          <p:nvPr/>
        </p:nvSpPr>
        <p:spPr>
          <a:xfrm>
            <a:off x="316080" y="5524560"/>
            <a:ext cx="1904760" cy="1066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Gewinkelte Verbindung 15"/>
          <p:cNvCxnSpPr>
            <a:stCxn id="80" idx="0"/>
          </p:cNvCxnSpPr>
          <p:nvPr/>
        </p:nvCxnSpPr>
        <p:spPr>
          <a:xfrm flipH="1" flipV="1" rot="5400000">
            <a:off x="2557440" y="3510720"/>
            <a:ext cx="725040" cy="3303000"/>
          </a:xfrm>
          <a:prstGeom prst="bentConnector3">
            <a:avLst>
              <a:gd name="adj1" fmla="val 6597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82" name="Gerade Verbindung mit Pfeil 17"/>
          <p:cNvCxnSpPr>
            <a:stCxn id="46" idx="0"/>
          </p:cNvCxnSpPr>
          <p:nvPr/>
        </p:nvCxnSpPr>
        <p:spPr>
          <a:xfrm flipV="1">
            <a:off x="5524560" y="4820760"/>
            <a:ext cx="720" cy="70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Gerade Verbindung mit Pfeil 19"/>
          <p:cNvCxnSpPr>
            <a:endCxn id="43" idx="2"/>
          </p:cNvCxnSpPr>
          <p:nvPr/>
        </p:nvCxnSpPr>
        <p:spPr>
          <a:xfrm flipV="1">
            <a:off x="4571640" y="4343400"/>
            <a:ext cx="7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Gerade Verbindung mit Pfeil 21"/>
          <p:cNvCxnSpPr/>
          <p:nvPr/>
        </p:nvCxnSpPr>
        <p:spPr>
          <a:xfrm flipV="1">
            <a:off x="3281040" y="48204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44Z</dcterms:created>
  <dc:creator>Elisabeth Büche</dc:creator>
  <dc:description/>
  <dc:language>en-US</dc:language>
  <cp:lastModifiedBy>Bueche Daniel</cp:lastModifiedBy>
  <cp:lastPrinted>2008-06-20T17:31:28Z</cp:lastPrinted>
  <dcterms:modified xsi:type="dcterms:W3CDTF">2014-08-01T13:40:05Z</dcterms:modified>
  <cp:revision>19</cp:revision>
  <dc:subject/>
  <dc:title>PowerPoint-Präsentation</dc:title>
</cp:coreProperties>
</file>